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8.png" ContentType="image/png"/>
  <Override PartName="/ppt/media/image7.jpeg" ContentType="image/jpeg"/>
  <Override PartName="/ppt/media/image24.png" ContentType="image/png"/>
  <Override PartName="/ppt/media/image11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1.jpeg" ContentType="image/jpeg"/>
  <Override PartName="/ppt/media/image19.jpeg" ContentType="image/jpeg"/>
  <Override PartName="/ppt/media/image42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30.png" ContentType="image/png"/>
  <Override PartName="/ppt/media/image37.jpeg" ContentType="image/jpeg"/>
  <Override PartName="/ppt/media/image13.png" ContentType="image/png"/>
  <Override PartName="/ppt/media/image35.png" ContentType="image/png"/>
  <Override PartName="/ppt/media/image40.png" ContentType="image/png"/>
  <Override PartName="/ppt/media/image9.jpeg" ContentType="image/jpeg"/>
  <Override PartName="/ppt/media/image31.jpeg" ContentType="image/jpeg"/>
  <Override PartName="/ppt/media/image41.png" ContentType="image/png"/>
  <Override PartName="/ppt/media/image43.png" ContentType="image/png"/>
  <Override PartName="/ppt/media/image44.jpeg" ContentType="image/jpeg"/>
  <Override PartName="/ppt/media/image45.png" ContentType="image/png"/>
  <Override PartName="/ppt/media/image5.wmf" ContentType="image/x-wmf"/>
  <Override PartName="/ppt/media/image27.jpeg" ContentType="image/jpeg"/>
  <Override PartName="/ppt/media/image46.png" ContentType="image/png"/>
  <Override PartName="/ppt/media/image39.jpeg" ContentType="image/jpeg"/>
  <Override PartName="/ppt/media/image38.png" ContentType="image/png"/>
  <Override PartName="/ppt/media/image8.png" ContentType="image/png"/>
  <Override PartName="/ppt/media/image18.png" ContentType="image/png"/>
  <Override PartName="/ppt/media/image20.png" ContentType="image/png"/>
  <Override PartName="/ppt/media/image36.png" ContentType="image/png"/>
  <Override PartName="/ppt/media/image6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5.jpeg" ContentType="image/jpeg"/>
  <Override PartName="/ppt/media/image2.png" ContentType="image/png"/>
  <Override PartName="/ppt/media/image3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F9E6D-A2F2-461E-AAF1-342B06F2F8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8079E-9D4D-49BE-8062-229E9BE2BE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43C5F-AEA6-4CCE-8D99-54F9992CD1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BED7E-FE71-4B2C-B6AA-BCC5B2BF15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FBE40-B5BC-443C-91FA-AE07F40B27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64FD7-F3F6-4276-8F50-C2B379CDA3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89CAE-2007-4C8C-B161-A113EBFA29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187AE-9D65-4B3C-A446-A3267F58F6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EB980-44A1-4A87-8A58-AD541DDDA5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D39F3-6FAA-4B02-8530-FF97A630C1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A273-8AE3-43B9-ADEC-DCFB8F0453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C61B9-2018-4963-8DA6-CC62544F4F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E875C-B65A-4B2C-84F3-EAC412C71A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2888F-50F3-4E3E-A95D-6FE821C128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01916-0AE1-4678-A5EE-BC67A72AF8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09738-4C4D-4801-95A5-EAC8C80318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B987B-7D14-45A3-9412-1C04E0501E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47886-2635-4B4B-867A-F363A9D8E8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830F3-76AC-44B0-9E26-175B51A78E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44EB5-BC71-44F0-AEAB-0C3952B639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EAE2D-46FD-4C8D-8653-14DBAAEE2D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628CB-6FB7-492C-83C6-74C7556180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743FD-CA06-4013-832D-EC03423EFB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C8D45-38F1-4869-B9D7-3F4207A31C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97F7D-0003-4F60-8068-5C516D3CBC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75C5-849F-4488-ADC4-F05527A21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DDE6-E215-4E85-8A1F-8A154475D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5997-5E66-44AE-A60F-5E7930AE3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8747-35E8-489D-B3AA-9196F879A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17DCA-5A62-4642-89BB-173E4AE6D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CD389-9044-4B29-844D-5730D0447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E031F-E27F-4FEE-A646-DC5A80740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5A513-22E3-4E68-9245-AF5612E50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7A568-1B46-4E64-B980-4464D5A10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772E5-262B-4C82-B238-90409C8D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F1ACC-FB7E-4CFF-B9AE-FC41349A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A104-924F-47CA-A88B-43541B1F7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A7A45-BB5E-4876-96BD-DACD7E13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B5628-4A3F-4466-B0FA-EAC65C6A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F9DB8-2950-4A9D-96A6-02FF9A12E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CBB71-6AC5-4D9F-99E6-022B02BEF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29445-B77A-484F-AC2A-297C86362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6CA66-14F7-4B34-B730-E28BBE42C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865A9-CCC9-42D7-95EC-246819609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B6AC0-862C-432D-B297-CCCCE1C4C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FCAC3-32AA-47C4-9CA6-4B65AFA92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56559-1A78-4B6D-BBA6-69B0776DB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79C8-C0CA-4990-A77C-AD1223B09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C11F2-17C2-4967-BBE9-520AD1FCA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DB83E-E67F-49D0-883D-A2F27F15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EDD96-96DA-4C12-818D-0E60C8DF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C7E98-0EAF-4114-BEB1-BFBC06F7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35FB0-166D-4B30-AE19-5403B9D74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F4BC7-1B09-4D4D-9679-B6DB5D732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99025-9F97-4237-8583-90BD02C56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A58E6-2E8C-43B4-84B8-9DD306E2B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469AB-65DF-43D9-913D-98394B787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42712-1D03-42AE-8047-BDC014A28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1DB3-EDDA-4ACE-869A-7E5963B4C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8E31B-E65E-4E27-AB01-473F61564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CA9CD-018F-4BA3-ACBE-4536B476D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B6A2A-D578-4A96-9E0E-A22F45DFF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4E7C9-663E-4F21-8231-BB62F215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29DA8-99F5-40A2-B9C7-8260CF23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1F11E-CDD0-4C28-BD38-82588564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3FB67-E58F-48D7-B719-FAECA075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F7CF3-9412-4191-841C-C8DBA715F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11C8A-4232-4B4C-B21D-AFFE74636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F0784-9912-4566-ADC1-237A3E138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F752-8046-461D-AC82-8721E9C19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96F12-C41D-4EE8-81B7-5EAA3A663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E20CE-2644-4DE8-AB66-A781F9BAB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762A8-5926-4795-A8E9-7C514E1D9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FE477-A729-4F2A-B4AC-3D7856CBF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F9B5F-E4F9-46EF-A8CF-87566090D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9B9F5-FAC4-443F-825F-10FA638F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C5346-6982-4865-BAEF-51B11B70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9C62A-D2E5-4E1F-9B3A-22D88B1D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CCB6C-002A-41C1-BDC5-5D5D49D9F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92546-1A67-4F91-9930-548693FFC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9AA4-9A34-459D-95ED-9814827EF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AC211-D932-4B98-B777-8485F5DDD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378FF-84F6-44F8-A382-48D1D8B07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C07D8-E7B0-4DCB-A67F-7DA3DED86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37317-13F5-4AA8-9639-B6B70E8F6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6AD4FC-90C3-4728-B43F-FD27BA2FB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2FFBD6-195C-43AD-89D4-686FE443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81FB1-7A75-4D24-A0CC-EFC2736F1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9E75A-F5F5-4F93-B9B5-E3CFAF9F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A0C7D3-9C91-43D2-8BDC-277D0F11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A75199-2837-4D44-B62F-B7AAF9AF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451B-7411-4110-9108-87A489AC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E7385-E98E-4928-95FA-58B48E897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4FCC6-63EC-43AE-85D1-34F45DAC9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FE866-1E7D-49EC-B56A-97A551C25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F30865-95CE-4358-9A58-09569FA91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5B2781-FBA9-4151-BAE0-CAD89B5B0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D5885-7AEF-4AAE-B554-BFD5D883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485865-AD82-48CE-837E-0D21A2F68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1CA3D-1C18-4B73-B287-03C9AFE1C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3E6512-A24C-4405-924B-C227CDD17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73D7A7-3D88-4DB2-8672-9DF9A5D4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FBAC-8F98-4AEF-A27C-884CAA3C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290CE1-4F84-4ABE-8813-BB2E96F7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22A79D-7B2D-4D93-8AD6-D56DCF3A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D427D-0B25-4A07-87C0-C0E1B9630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E6FCDD-99CB-4D4A-82E9-2585609D0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4568A1-8C0E-43FE-8B1E-56792DBD4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8DF5A7-C97F-4399-8EE9-94159ABB5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7C1113-2337-4AA9-86FC-43C1593B0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798E61-A94A-4977-92E8-48D3D93C2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14F307-F77B-4D2F-8198-558413BB4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E10A6D-BC80-4F90-93F0-B45108081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32BD-FE62-4653-8F7F-1EF3BB4D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8D30D6-BAD2-40A1-98DF-B6B1E52C1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B1B854-D83E-456A-8DF6-7DF287DE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F114BD-50E8-485E-AB76-7F389A19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27C1FB-4BC8-4FF0-B972-021A3150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0C6D1C-8EF4-427C-90B3-E4CD48613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E5DBB-F64E-4C59-BB8A-E210CAFFC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97C172-FC17-47A0-BEAA-FA7E10009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F4BCA-36B7-42C0-BAB0-99DE8B861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4A3E1-BEC3-4389-9A15-642935D9855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92980-6CD3-461B-AC94-F7DFCC13D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Straight Connector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Straight Connector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0B54C-CBB3-44FE-83CB-E7D180D308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2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3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5AE6D-CF01-448F-8FD5-7D87DEBB2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6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7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9AF72-CA85-40B8-8991-B514A88C23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AC9C7-F5ED-49C9-B186-4698FF2A7220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4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5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7D2C7-6962-475D-95EF-0F6297C02911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4.jpeg"/><Relationship Id="rId3" Type="http://schemas.openxmlformats.org/officeDocument/2006/relationships/image" Target="../media/image44.jpeg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Title 1" descr=""/>
          <p:cNvPicPr/>
          <p:nvPr/>
        </p:nvPicPr>
        <p:blipFill>
          <a:blip r:embed="rId1"/>
          <a:stretch/>
        </p:blipFill>
        <p:spPr>
          <a:xfrm>
            <a:off x="530280" y="938160"/>
            <a:ext cx="8211960" cy="3932280"/>
          </a:xfrm>
          <a:prstGeom prst="rect">
            <a:avLst/>
          </a:prstGeom>
          <a:ln w="0">
            <a:noFill/>
          </a:ln>
        </p:spPr>
      </p:pic>
      <p:pic>
        <p:nvPicPr>
          <p:cNvPr id="365" name="Subtitle 2" descr=""/>
          <p:cNvPicPr/>
          <p:nvPr/>
        </p:nvPicPr>
        <p:blipFill>
          <a:blip r:embed="rId2"/>
          <a:stretch/>
        </p:blipFill>
        <p:spPr>
          <a:xfrm>
            <a:off x="378000" y="3730680"/>
            <a:ext cx="824220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Title 1" descr=""/>
          <p:cNvPicPr/>
          <p:nvPr/>
        </p:nvPicPr>
        <p:blipFill>
          <a:blip r:embed="rId1"/>
          <a:stretch/>
        </p:blipFill>
        <p:spPr>
          <a:xfrm>
            <a:off x="-66600" y="-6480"/>
            <a:ext cx="1371600" cy="6870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1447920" y="380520"/>
            <a:ext cx="3124080" cy="593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entury Gothic"/>
              </a:rPr>
              <a:t>Work areas should be kept clean and tidy 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entury Gothic"/>
              </a:rPr>
              <a:t>at all times. 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90" name="Content Placeholder 6" descr="Lab_Safety_hair care.jpg"/>
          <p:cNvPicPr/>
          <p:nvPr/>
        </p:nvPicPr>
        <p:blipFill>
          <a:blip r:embed="rId2"/>
          <a:stretch/>
        </p:blipFill>
        <p:spPr>
          <a:xfrm>
            <a:off x="4343400" y="1066680"/>
            <a:ext cx="45846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Title 1" descr=""/>
          <p:cNvPicPr/>
          <p:nvPr/>
        </p:nvPicPr>
        <p:blipFill>
          <a:blip r:embed="rId1"/>
          <a:stretch/>
        </p:blipFill>
        <p:spPr>
          <a:xfrm>
            <a:off x="-66600" y="-6480"/>
            <a:ext cx="1371600" cy="687096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1295280" y="-360"/>
            <a:ext cx="3276720" cy="63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Labels and equipment instructions must 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be read carefully before use.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93" name="Content Placeholder 6" descr="Lab_Safety_hair care.jpg"/>
          <p:cNvPicPr/>
          <p:nvPr/>
        </p:nvPicPr>
        <p:blipFill>
          <a:blip r:embed="rId2"/>
          <a:stretch/>
        </p:blipFill>
        <p:spPr>
          <a:xfrm>
            <a:off x="4724280" y="609480"/>
            <a:ext cx="4203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-6480" y="-128520"/>
            <a:ext cx="927360" cy="704196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990720" y="380520"/>
            <a:ext cx="3581280" cy="593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Any time chemicals, heat, or glassware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are used, students will wear laboratory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goggles. There will be no exceptions to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s rule!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96" name="Content Placeholder 6" descr="Lab_Safety_hair care.jpg"/>
          <p:cNvPicPr/>
          <p:nvPr/>
        </p:nvPicPr>
        <p:blipFill>
          <a:blip r:embed="rId2"/>
          <a:stretch/>
        </p:blipFill>
        <p:spPr>
          <a:xfrm>
            <a:off x="4572000" y="838080"/>
            <a:ext cx="4356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Title 1" descr=""/>
          <p:cNvPicPr/>
          <p:nvPr/>
        </p:nvPicPr>
        <p:blipFill>
          <a:blip r:embed="rId1"/>
          <a:stretch/>
        </p:blipFill>
        <p:spPr>
          <a:xfrm>
            <a:off x="-6480" y="-103320"/>
            <a:ext cx="1311480" cy="699768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1142640" y="380520"/>
            <a:ext cx="3429000" cy="593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Long hair, dangling jewelry, and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loose or baggy clothing are a hazard in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e laboratory. Long hair must be tied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back and dangling jewelry and loose or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baggy clothing must be secured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99" name="Content Placeholder 6" descr="Lab_Safety_hair care.jpg"/>
          <p:cNvPicPr/>
          <p:nvPr/>
        </p:nvPicPr>
        <p:blipFill>
          <a:blip r:embed="rId2"/>
          <a:stretch/>
        </p:blipFill>
        <p:spPr>
          <a:xfrm>
            <a:off x="4343400" y="609480"/>
            <a:ext cx="4584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Title 1" descr=""/>
          <p:cNvPicPr/>
          <p:nvPr/>
        </p:nvPicPr>
        <p:blipFill>
          <a:blip r:embed="rId1"/>
          <a:stretch/>
        </p:blipFill>
        <p:spPr>
          <a:xfrm>
            <a:off x="-6480" y="-255600"/>
            <a:ext cx="1311480" cy="729612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1295280" y="990360"/>
            <a:ext cx="32767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If you do not understand how to use a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piece of equipment, ask the instructor for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help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02" name="Content Placeholder 6" descr="Lab_Safety_hair care.jpg"/>
          <p:cNvPicPr/>
          <p:nvPr/>
        </p:nvPicPr>
        <p:blipFill>
          <a:blip r:embed="rId2"/>
          <a:stretch/>
        </p:blipFill>
        <p:spPr>
          <a:xfrm>
            <a:off x="4800600" y="914400"/>
            <a:ext cx="41274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27360" cy="687096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1218960" y="380520"/>
            <a:ext cx="3352680" cy="593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hemicals should never be sniffed.  Follow the right procedures.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05" name="Content Placeholder 6" descr="Lab_Safety_hair care.jpg"/>
          <p:cNvPicPr/>
          <p:nvPr/>
        </p:nvPicPr>
        <p:blipFill>
          <a:blip r:embed="rId2"/>
          <a:stretch/>
        </p:blipFill>
        <p:spPr>
          <a:xfrm>
            <a:off x="4648320" y="1066680"/>
            <a:ext cx="42796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1311480" cy="687096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1447920" y="380520"/>
            <a:ext cx="3124080" cy="593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entury Gothic"/>
              </a:rPr>
              <a:t>Lab coat should be worn all the time in the lab area.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08" name="Picture 2" descr="C:\Documents and Settings\Owner\My Documents\My Pictures\Lab_Safety_lab coat.jpg"/>
          <p:cNvPicPr/>
          <p:nvPr/>
        </p:nvPicPr>
        <p:blipFill>
          <a:blip r:embed="rId2"/>
          <a:stretch/>
        </p:blipFill>
        <p:spPr>
          <a:xfrm>
            <a:off x="4648320" y="838080"/>
            <a:ext cx="42796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326440" cy="1481400"/>
          </a:xfrm>
          <a:prstGeom prst="rect">
            <a:avLst/>
          </a:prstGeom>
          <a:ln w="0">
            <a:noFill/>
          </a:ln>
        </p:spPr>
      </p:pic>
      <p:pic>
        <p:nvPicPr>
          <p:cNvPr id="410" name="Subtitle 2" descr=""/>
          <p:cNvPicPr/>
          <p:nvPr/>
        </p:nvPicPr>
        <p:blipFill>
          <a:blip r:embed="rId2"/>
          <a:stretch/>
        </p:blipFill>
        <p:spPr>
          <a:xfrm>
            <a:off x="536400" y="2170080"/>
            <a:ext cx="817416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Titl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1311480" cy="687096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1447920" y="380520"/>
            <a:ext cx="7696080" cy="593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hen entering the Lab Area, you would find a cabinet  with these labels on: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Open it and take one pair of goggles and a lab coat, put them on and continue to the lab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13" name="Picture 4" descr=""/>
          <p:cNvPicPr/>
          <p:nvPr/>
        </p:nvPicPr>
        <p:blipFill>
          <a:blip r:embed="rId2"/>
          <a:srcRect l="12114" t="21117" r="14443" b="8282"/>
          <a:stretch/>
        </p:blipFill>
        <p:spPr>
          <a:xfrm>
            <a:off x="2133720" y="1981080"/>
            <a:ext cx="2361960" cy="19814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2" descr="C:\Documents and Settings\Owner\My Documents\My Pictures\Lab_Safety_lab coat.jpg"/>
          <p:cNvPicPr/>
          <p:nvPr/>
        </p:nvPicPr>
        <p:blipFill>
          <a:blip r:embed="rId3"/>
          <a:stretch/>
        </p:blipFill>
        <p:spPr>
          <a:xfrm>
            <a:off x="5486400" y="1981080"/>
            <a:ext cx="23623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Title 1" descr=""/>
          <p:cNvPicPr/>
          <p:nvPr/>
        </p:nvPicPr>
        <p:blipFill>
          <a:blip r:embed="rId1"/>
          <a:stretch/>
        </p:blipFill>
        <p:spPr>
          <a:xfrm>
            <a:off x="85680" y="-6480"/>
            <a:ext cx="1523880" cy="687096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1447920" y="380520"/>
            <a:ext cx="3124080" cy="593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mmediately flush with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running water from the eyewash station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or safety shower for at least 20 minutes.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Notify the instructor immediately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17" name="Content Placeholder 6" descr="Lab_Safety_hair care.jpg"/>
          <p:cNvPicPr/>
          <p:nvPr/>
        </p:nvPicPr>
        <p:blipFill>
          <a:blip r:embed="rId2"/>
          <a:stretch/>
        </p:blipFill>
        <p:spPr>
          <a:xfrm>
            <a:off x="4800600" y="762120"/>
            <a:ext cx="41274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Title 3" descr=""/>
          <p:cNvPicPr/>
          <p:nvPr/>
        </p:nvPicPr>
        <p:blipFill>
          <a:blip r:embed="rId1"/>
          <a:stretch/>
        </p:blipFill>
        <p:spPr>
          <a:xfrm>
            <a:off x="1292400" y="-6480"/>
            <a:ext cx="7186320" cy="63406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29" descr=""/>
          <p:cNvPicPr/>
          <p:nvPr/>
        </p:nvPicPr>
        <p:blipFill>
          <a:blip r:embed="rId2"/>
          <a:stretch/>
        </p:blipFill>
        <p:spPr>
          <a:xfrm flipH="1">
            <a:off x="0" y="457200"/>
            <a:ext cx="19051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Titl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1616040" cy="687096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1447920" y="380520"/>
            <a:ext cx="3124080" cy="593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You will be shown the proper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ethod for diluting strong acids. Always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dd acid to water, swirl or stir the solution and be careful of the heat produced,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particularly with sulfuric acid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20" name="Content Placeholder 6" descr="Lab_Safety_hair care.jpg"/>
          <p:cNvPicPr/>
          <p:nvPr/>
        </p:nvPicPr>
        <p:blipFill>
          <a:blip r:embed="rId2"/>
          <a:stretch/>
        </p:blipFill>
        <p:spPr>
          <a:xfrm>
            <a:off x="4800600" y="1371600"/>
            <a:ext cx="4127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Titl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1311480" cy="687096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1295280" y="-360"/>
            <a:ext cx="3276720" cy="63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e use of equipment will be modeled to you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If you do not understand how to use a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piece of equipment, ask the instructor for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help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23" name="Content Placeholder 6" descr="Lab_Safety_hair care.jpg"/>
          <p:cNvPicPr/>
          <p:nvPr/>
        </p:nvPicPr>
        <p:blipFill>
          <a:blip r:embed="rId2"/>
          <a:stretch/>
        </p:blipFill>
        <p:spPr>
          <a:xfrm>
            <a:off x="4800600" y="914400"/>
            <a:ext cx="41274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Titl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1311480" cy="6870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1295280" y="533520"/>
            <a:ext cx="32767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Place the container about six inches from your nose and, using your free hand, wave the vapors toward your nose.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26" name="Content Placeholder 6" descr="Lab_Safety_hair care.jpg"/>
          <p:cNvPicPr/>
          <p:nvPr/>
        </p:nvPicPr>
        <p:blipFill>
          <a:blip r:embed="rId2"/>
          <a:stretch/>
        </p:blipFill>
        <p:spPr>
          <a:xfrm>
            <a:off x="4800600" y="1066680"/>
            <a:ext cx="41274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Titl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1311480" cy="687096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1295280" y="533520"/>
            <a:ext cx="32767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Follow the P.A.S.S .word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Pull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Aim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Squeez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Sweep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29" name="Picture 2" descr="C:\Documents and Settings\Owner\My Documents\My Pictures\safety rules fire extinguisher.jpg"/>
          <p:cNvPicPr/>
          <p:nvPr/>
        </p:nvPicPr>
        <p:blipFill>
          <a:blip r:embed="rId2"/>
          <a:stretch/>
        </p:blipFill>
        <p:spPr>
          <a:xfrm>
            <a:off x="4800600" y="609480"/>
            <a:ext cx="403848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382240" cy="14079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2" descr="C:\Documents and Settings\Owner\My Documents\My Pictures\safety rules fire extinguisher.jpg"/>
          <p:cNvPicPr/>
          <p:nvPr/>
        </p:nvPicPr>
        <p:blipFill>
          <a:blip r:embed="rId2"/>
          <a:stretch/>
        </p:blipFill>
        <p:spPr>
          <a:xfrm>
            <a:off x="3486240" y="2766960"/>
            <a:ext cx="2171520" cy="280368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2" descr="C:\Documents and Settings\Owner\My Documents\My Pictures\safety rules fire extinguisher.jpg"/>
          <p:cNvPicPr/>
          <p:nvPr/>
        </p:nvPicPr>
        <p:blipFill>
          <a:blip r:embed="rId3"/>
          <a:stretch/>
        </p:blipFill>
        <p:spPr>
          <a:xfrm>
            <a:off x="3505320" y="2666880"/>
            <a:ext cx="2170080" cy="28036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2" descr="C:\Documents and Settings\Owner\My Documents\My Pictures\Lab_Safety_follow directions.jpg"/>
          <p:cNvPicPr/>
          <p:nvPr/>
        </p:nvPicPr>
        <p:blipFill>
          <a:blip r:embed="rId4"/>
          <a:stretch/>
        </p:blipFill>
        <p:spPr>
          <a:xfrm>
            <a:off x="835200" y="1706400"/>
            <a:ext cx="7553160" cy="491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1"/>
          <p:cNvSpPr/>
          <p:nvPr/>
        </p:nvSpPr>
        <p:spPr>
          <a:xfrm>
            <a:off x="609480" y="607680"/>
            <a:ext cx="807732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40059"/>
                </a:solidFill>
                <a:uFillTx/>
                <a:latin typeface="Verdana"/>
                <a:ea typeface="Times New Roman"/>
              </a:rPr>
              <a:t>CHEMISTRY LABORATORY RULES AND PROCEDURE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59"/>
                </a:solidFill>
                <a:latin typeface="Verdana"/>
                <a:ea typeface="Times New Roman"/>
              </a:rPr>
              <a:t>Follow the rules and learn the procedures  to minimize risk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59"/>
                </a:solidFill>
                <a:latin typeface="Verdana"/>
                <a:ea typeface="Times New Roman"/>
              </a:rPr>
              <a:t>IF IN DOUBT ABOUT ANYTHING, ASK.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59"/>
                </a:solidFill>
                <a:latin typeface="Verdana"/>
                <a:ea typeface="Times New Roman"/>
              </a:rPr>
              <a:t>THE LABORATORY IS NO PLACE TO MAKE ASSUMPTIONS!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Title 1" descr=""/>
          <p:cNvPicPr/>
          <p:nvPr/>
        </p:nvPicPr>
        <p:blipFill>
          <a:blip r:embed="rId1"/>
          <a:stretch/>
        </p:blipFill>
        <p:spPr>
          <a:xfrm>
            <a:off x="208080" y="-6480"/>
            <a:ext cx="1096920" cy="68709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1218960" y="0"/>
            <a:ext cx="37335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A chemistry lab can be a cool place to be, but also it can be very dangerous.  No clowning will be allowed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A high school students should behave responsibly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71" name="Content Placeholder 4" descr="Goggles.jpg"/>
          <p:cNvPicPr/>
          <p:nvPr/>
        </p:nvPicPr>
        <p:blipFill>
          <a:blip r:embed="rId2"/>
          <a:stretch/>
        </p:blipFill>
        <p:spPr>
          <a:xfrm>
            <a:off x="5029200" y="1066680"/>
            <a:ext cx="38988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Title 1" descr=""/>
          <p:cNvPicPr/>
          <p:nvPr/>
        </p:nvPicPr>
        <p:blipFill>
          <a:blip r:embed="rId1"/>
          <a:stretch/>
        </p:blipFill>
        <p:spPr>
          <a:xfrm>
            <a:off x="-19080" y="-42840"/>
            <a:ext cx="1725480" cy="696132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1752480" y="0"/>
            <a:ext cx="32004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We want you alive!! Therefore, eating or drinking are not allowed in the lab area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Do not use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laboratory glassware as containers for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od or beverages</a:t>
            </a: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74" name="Content Placeholder 4" descr="Goggles.jpg"/>
          <p:cNvPicPr/>
          <p:nvPr/>
        </p:nvPicPr>
        <p:blipFill>
          <a:blip r:embed="rId2"/>
          <a:stretch/>
        </p:blipFill>
        <p:spPr>
          <a:xfrm>
            <a:off x="5029200" y="1066680"/>
            <a:ext cx="3898800" cy="4648320"/>
          </a:xfrm>
          <a:prstGeom prst="rect">
            <a:avLst/>
          </a:prstGeom>
          <a:ln w="0">
            <a:noFill/>
          </a:ln>
        </p:spPr>
      </p:pic>
      <p:pic>
        <p:nvPicPr>
          <p:cNvPr id="375" name="Content Placeholder 4" descr="Goggles.jpg"/>
          <p:cNvPicPr/>
          <p:nvPr/>
        </p:nvPicPr>
        <p:blipFill>
          <a:blip r:embed="rId3"/>
          <a:stretch/>
        </p:blipFill>
        <p:spPr>
          <a:xfrm>
            <a:off x="4648320" y="990720"/>
            <a:ext cx="42796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Titl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1616040" cy="687096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1447920" y="0"/>
            <a:ext cx="3124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Never do anything in the laboratory that is not called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r in the laboratory procedures or by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your instructor. Unauthorized experiments are prohibited.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78" name="Content Placeholder 4" descr="Goggles.jpg"/>
          <p:cNvPicPr/>
          <p:nvPr/>
        </p:nvPicPr>
        <p:blipFill>
          <a:blip r:embed="rId2"/>
          <a:stretch/>
        </p:blipFill>
        <p:spPr>
          <a:xfrm>
            <a:off x="4800600" y="762120"/>
            <a:ext cx="41274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Titl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1768680" cy="687096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1447920" y="0"/>
            <a:ext cx="3124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Bare feet or any type of open shoe or sandal can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not be worn into the chemistry laboratory.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Likewise, short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ants and skirts are also not permitted.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It is recommended that you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don't wear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your best clothes to lab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81" name="Picture 2" descr=""/>
          <p:cNvPicPr/>
          <p:nvPr/>
        </p:nvPicPr>
        <p:blipFill>
          <a:blip r:embed="rId2"/>
          <a:stretch/>
        </p:blipFill>
        <p:spPr>
          <a:xfrm>
            <a:off x="4952880" y="1295280"/>
            <a:ext cx="37339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Title 1" descr=""/>
          <p:cNvPicPr/>
          <p:nvPr/>
        </p:nvPicPr>
        <p:blipFill>
          <a:blip r:embed="rId1"/>
          <a:stretch/>
        </p:blipFill>
        <p:spPr>
          <a:xfrm>
            <a:off x="-6480" y="-182520"/>
            <a:ext cx="1311480" cy="715644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1447920" y="380520"/>
            <a:ext cx="3124080" cy="593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Glassware must be placed in the special trashcan labeled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entury Gothic"/>
              </a:rPr>
              <a:t>BROKEN GLASS ONLY</a:t>
            </a: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84" name="Content Placeholder 4" descr="Goggles.jpg"/>
          <p:cNvPicPr/>
          <p:nvPr/>
        </p:nvPicPr>
        <p:blipFill>
          <a:blip r:embed="rId2"/>
          <a:stretch/>
        </p:blipFill>
        <p:spPr>
          <a:xfrm>
            <a:off x="4648320" y="914400"/>
            <a:ext cx="42796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Title 1" descr=""/>
          <p:cNvPicPr/>
          <p:nvPr/>
        </p:nvPicPr>
        <p:blipFill>
          <a:blip r:embed="rId1"/>
          <a:stretch/>
        </p:blipFill>
        <p:spPr>
          <a:xfrm>
            <a:off x="-6480" y="-201600"/>
            <a:ext cx="1397160" cy="720576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1447560" y="380520"/>
            <a:ext cx="3429000" cy="593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Horseplay, practical jokes, and pranks 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are dangerous and prohibited. 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87" name="Content Placeholder 6" descr="Lab_Safety_horseplay.jpg"/>
          <p:cNvPicPr/>
          <p:nvPr/>
        </p:nvPicPr>
        <p:blipFill>
          <a:blip r:embed="rId2"/>
          <a:stretch/>
        </p:blipFill>
        <p:spPr>
          <a:xfrm>
            <a:off x="4952880" y="762120"/>
            <a:ext cx="39751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2T12:44:16Z</dcterms:created>
  <dc:creator>Owner</dc:creator>
  <dc:description/>
  <dc:language>en-US</dc:language>
  <cp:lastModifiedBy>Owner</cp:lastModifiedBy>
  <dcterms:modified xsi:type="dcterms:W3CDTF">2008-11-02T16:51:25Z</dcterms:modified>
  <cp:revision>25</cp:revision>
  <dc:subject/>
  <dc:title>LAB SAFETY RULES AND PROCEDURES</dc:title>
</cp:coreProperties>
</file>